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5595-342C-4457-A723-B1893B9918B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F72D-B5FF-4196-B359-F8B954ED3D8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υθώντας τις αρχές του Weber, τα υπουργεία έχουν συνήθως αυστηρά ιεραρχική οργάνωση (βλ. Σχήμα 17.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2A2A-2678-4733-87AE-E43C1207429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ομή των υπουργείων συγκροτείται κατά κανόνα από διάφορα επιμέρους τμήματα, το καθένα εκ των οποίων είναι υπεύθυνο για συγκεκριμένη πτυχή της δραστηριότητας του οργανισμού.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τμήματα αποτελούν τα λειτουργικά μέρη των υπουργείων, καθώς σε αυτά γίνεται όλη η πρακτική δουλειά.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ες δημοκρατίες, τα τμήματα και οι υπηρεσίες των υπουργείων έχουν ακόμη πιο αναβαθμισμένο ρόλο, καθώς απολαμβάνουν ένα είδος αυτονομίας από την κεντρική διοίκηση.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46ED-7D99-41F1-B956-612FE7908FF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λόγοι για τη δημιουργία μη κυβερνητικών δημόσιων φορέων είναι πολλοί:</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υπάρχει προστασία από τις πολιτικές σκοπιμότητε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υπάρχει μεγαλύτερη ευελιξία (και περιορισμός δαπανών) σε σχέση με ένα τυπικό υπουργεί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ναγνωρίζεται η επαγγελματική υπόσταση και η αυτονομία του προσωπικού.</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απάντηση στις κοντόφθαλμες πιέσεις του τύπου «πρέπει να κάνουμε κάτι για το εκάστοτε πρόβλημ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μπορούν τα υπουργεία να επικεντρώνουν την προσοχή τους στη χάραξη της πολιτικής.</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C701-BEA2-4A69-8BA2-1C54FF34744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Λογοδοσία (accountability) με την αυστηρή έννοια του όρου, είναι η υποχρέωση έκθεσης πεπραγμένων. Ευρύτερα, ταυτίζεται με την έννοια της ευθύνης. Με αυτή τη δεύτερη έννοια, το άτομο είναι υπεύθυνο για τις ενέργειές του έναντι άλλου φορέα. Ο φορέας αυτός έχει την εξουσία να αξιολογεί και ενδεχομένως να επιβάλλει κυρώ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B50A-5B3E-4799-9093-12015C85896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κύριες μέθοδοι εποπτείας και λογοδοσίας των στελεχών της δημόσιας διοίκησης είναι οι εσωτερικοί έλεγχοι, που εφαρμόζονται στο εσωτερικό των ίδιων των δημόσιων οργανισμών, και οι εξωτερικοί έλεγχοι από ανεξάρτητους φορείς.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C066-70BE-492A-9E44-2627FC5F81B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υνήγορος του πολίτη (ombudsman) είναι δημόσιος αξιωματούχος που διορίζεται από το κοινοβούλιο για να διερευνά υποθέσεις κακοδιοίκησης στον δημόσιο τομέα. Ο θεσμός προέρχεται από τη Σκανδιναβία, τον αντέγραψαν, όμως, και άλλες χώρες, αν και τον περιέβαλαν με λιγότερες αρμοδιότητες και πιο περιορισμένα μέσ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6A29-0036-4E72-AA1A-A1F7C458A21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Hood μια συγκριτική προσέγγιση της Νέας Δημόσιας διοίκησης, η οποία διακρίνεται από τα εξής στοιχεία</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ευθυντές έχουν μεγαλύτερη ευχέρεια κινήσεων, είναι, όμως, υπεύθυνοι για τα αποτελέσματα των ενεργειών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ίθενται συγκεκριμένοι στόχοι βάσει των οποίων αξιολογείται η αποτελεσματικότη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ονδύλια κατανέμονται ανάλογα με την αποτελεσματικότητα του κάθε δημόσιου φορέ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υβερνητικά υπουργεία αποσυντίθενται σε περισσότερες ανεξάρτητες λειτουργικές μονάδε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ερισσότερες λειτουργίες ανατίθενται στον ιδιωτικό τομέ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ει μεγαλύτερη ευελιξία στη στελέχωση και κατάρτιση του προσωπικού.</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απάνες περιστέλλονται με σκοπό την επίτευξη περισσότερων στόχων με τα λιγότερα δυνατά μέσα.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BE47-50ED-4C9E-8B6D-F9976A30E7E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σέγγιση της συντονισμένης κυβέρνησης (joined-up-government ή whole-of-government) επιδιώκει τη βελτίωση του συντονισμού της δημόσιας πολιτικής σε όλους τους τομεί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ι της προσέγγισης αυτής είναι να αποτρέπεται ο κίνδυνος υπονόμευσης των στόχων μιας πολιτικής εξαιτίας της εφαρμογής άλλων πολιτικών, να συμβαδίζει η οργανωτική δομή της κυβέρνησης με τα καθήκοντα που καλείται να επιτελέσει και να αποκτούν οι πολίτες κατά το δυνατόν ευκολότερη πρόσβαση στις παρεχόμενες υπηρεσ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9FB8-B5C4-4A1E-A54A-09EB5A4DA49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ραφειοκρατία, όπως και ο στρατός, είναι συνήθως ισχυρότερη στα μη δημοκρατικά καθεστώτα απ' ό,τι στις δημοκρατίες. Οι αντιπροσωπευτικοί θεσμοί –οι εκλογές, τα ανταγωνιστικά κόμματα και οι ελεύθερα οργανωμένες ομάδες συμφερόντων- είναι εξ ορισμού αδύναμοι στα απολυταρχικά καθεστώτα, αφήνοντας μεγαλύτερα περιθώρια δράσης στις υπηρεσίες του κράτ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χνά, από κοινού με το στρατό, η γραφειοκρατία μετατρέπεται η ίδια σε κορυφαία πολιτική δύναμη, καθώς θεωρεί ότι η τεχνογνωσία που έχει συγκεντρώσει και η ικανότητά της να αντιστέκεται στις πιέσεις του λαού αποτελούν μονόδρομο για τη μακροπρόθεσμη οικονομική ανάπτυξη της χώρ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ρώτη φάση, ο ισχυρισμός αυτός μπορεί να έχει κάποια βάση, συνήθως, όμως, οι γραφειοκρατίες στα μη δημοκρατικά καθεστώτα εξελίσσονται σε πολιτικοποιημένους και αναποτελεσματικούς ογκόλιθους, με αποτέλεσμα να μετατρέπονται σε τροχοπέδη παρά σε παράγοντα προόδου.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D3BD-0602-4D77-88E4-4CE07BC26FE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γραφειοκρατικός απολυταρχισμός (bureaucratic authoritarianism) είναι ο όρος που διατύπωσε ο O'Donnell (1973) για να περιγράψει καθεστώτα όπου οι τεχνοκράτες της γραφειοκρατίας επέβαλαν την οικονομική σταθερότητα υπό την προστασία στρατιωτικών κυβερνήσεων που κατέστελλαν τα λαϊκά κινήματ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βρίσκει εφαρμογή σε χώρες της Λατινικής Αμερικής, όπως η Αργεντινή και η Βραζιλία κατά τις δεκαετίες του 60 και του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F893-CC18-4E07-8F23-BF369E02BB0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γραφειοκρατία (bureaucracy) σημαίνει κυριολεκτικά εξουσία των αξιωματούχων. Το πρώτο συνθετικό του όρου, γραφείον (bureau), έλκει την καταγωγή του από τον παλαιό γαλλικό όρο la bure, που ήταν το καφετί μάλλινο ύφασμα πάνω στο οποίο απόθεταν τα χαρτιά τους οι διοικητικοί αξιωματούχοι του βασιλιά. Το δεύτερο συνθετικό της λέξης προέρχεται από το ελληνικό κράτος, που σημαίνει εξουσία. Στη σύγχρονη εποχή, η γραφειοκρατία αναφέρεται στους έμμισθους λειτουργούς που συγκροτούν τη δημόσια διοίκηση ή δημόσια υπηρε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00B7-0484-4D78-8531-4FE27AF7745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ικανότητα της δημόσιας διοίκησης (administrative capacity) νοείται η ικανότητα της γραφειοκρατίας να αντιμετωπίζει τα κοινωνικά προβλήματα μέσα από την αποτελεσματική διαχείρισή τους και την εφαρμογή της δημόσιας πολιτικ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57D1-626A-4403-9312-84E5DC87DCC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ομενκλατούρα (nomenklatura) (λίστα ονομάτων) ήταν η ομάδα των έμπιστων ανθρώπων από όπου αντλούσαν τα στελέχη της γραφειοκρατίας τα κυβερνώντα κομμουνιστικά κόμ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A9A9-4C16-414A-8C5C-C78AE9CB5D2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νελεύθερες δημοκρατίες κατά κανόνα βασίζονται στην προσωπική σχέση που αναπτύσσει ο πρόεδρος με το λαό. Αυτό το άρρητο συμβόλαιο αποτρέπει την ενίσχυση θεσμών που λειτουργούν με βάση νομικούς κανόνες, όπως η βεμπεριανή γραφειοκρατία. Οι ανελεύθερες δημοκρατίες είναι πολιτικά, όχι γραφειοκρατικά καθεστώ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έραν τούτου, οι ηγέτες των ανελεύθερων δημοκρατιών συχνά προβάλλουν τον εαυτό τους ως αντίπαλο θεσμών όπως η γραφειοκρατί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ολλές ανελεύθερες δημοκρατίες, η δημόσια διοίκηση λειτουργεί ασυντόνιστα, καθώς επιμέρους τμήματα της γραφειοκρατίας υπηρετούν τα συμφέροντα των προϊσταμένων τους και όχι του λαού.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φθορά, μια κληρονομιά του απολυταρχικού παρελθόντος, ακμάζει, ενώ οι προσλήψεις συχνά λειτουργούν ως μέσο πολιτικής επιβράβευσης ή γίνονται με βάση εθνικά κριτήρια.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E726-4FEC-44A5-A8D2-1C1A70C8BB0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λυση της γραφειοκρατίας από τον Max Weber, ο οποίος συνέλαβε τη γραφειοκρατία ως δομημένη ιεραρχία της δημόσιας διοίκησης, υπήρξε η βάση για την εξέλιξη των νεότερων ιδεών περί δικτύων και διακυβέρνησης (βλ. Πλαίσιο 17.1)</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E8C3-A445-4C1C-AE85-229745424E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ρουσφετολογικό σύστημα (spoils system) οι εκλεγμένοι πολιτικοί διορίζουν σε δημόσιες θέσεις πρόσωπα που είχαν την πρόνοια να υποστηρίξουν τους υποψηφίους που τελικά επικράτησαν. Στις ΗΠΑ του 19ου αιώνα, η εκλογή νέου προέδρου συνοδευόταν από την αλλαγή του συνόλου σχεδόν του προσωπικού της ευάριθμης τότε ομοσπονδιακής κυβέρνη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στο αξιοκρατικό σύστημα (merit system) οι δημόσιοι υπάλληλοι προσλαμβάνονται κατόπιν διαγωνισμού με βάση την αξία του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7466-787E-402E-8156-4103306A324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ενικότερα, σε πολλές φιλελεύθερες δημοκρατίες έχουν διευρυνθεί οι τάξεις της ομάδας των ανθρώπων που λαμβάνουν τις αποφάσεις, καταργώντας το μονοπώλιο που απολάμβαναν άλλοτε οι δημόσιοι λειτουργοί στην παροχή γνωμοδοτήσεω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υς δημόσιους υπαλλήλους αναμένεται πλέον να εστιάζουν κυρίως στα αποτελέσματα, και συγκεκριμένα στα στοιχεία της οικονομικότητας, της απόδοσης και της αποτελεσματικότητα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2299-CC6C-4A19-AEF2-41AF6F2B254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ενοποιημένη (unified) ή γενικότερων αρμοδιοτήτων (generalist) γραφειοκρατία, η στελέχωση γίνεται στο σύνολο του δημόσιου τομέα και όχι σε κάποια συγκεκριμένη θέση εργασίας. Οι διοικητικές εργασίες χρειάζονται υπαλλήλους με ευφυΐα και μόρφωση, ενώ οι τεχνικές γνώσεις δεν είναι απαραίτητε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B879-936E-4538-8699-B797806C690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κατά την εξειδικευμένη ανά τομέα αρμοδιότητας (departmental) προσέγγιση προσλαμβάνεται προσωπικό που έχει το κατάλληλο τεχνικό υπόβαθρο για να καλύψει τις ανάγκες μιας συγκεκριμένης θέσης εργασ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E532-072B-4DA7-803F-5A0C8F57620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αφατική δράση (affirmative action) είναι οι πολιτικές που σχεδιάζονται για να ξεπεραστεί κάποια κληρονομιά διακρίσεων σε βάρος συγκεκριμένων ομάδων. Ένα είδος καταφατικής δράσης είναι η θετική διάκριση (positive discrimination) - δηλαδή η εφαρμογή χαμηλότερων κριτηρίων πρόσληψης για τα μέλη μειονεκτικών ομάδ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FB28-98D2-4E82-BEF3-E7C6A4EBA15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ότι οι δομές και τα ονόματα διαφέρουν από χώρα σε χώρα, μπορεί να γίνει βασική κατηγοριοποίηση σε τρεις τύπους οργάνωσης της κεντρικής κυβέρνη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ουργεία, δηλαδή διοικητικές μονάδες, με επικεφαλής έναν υπουργό που έχει εξουσία άμεσου διοικητικού ελέγχου. Συνήθως διαθέτουν επίσημη ιεραρχική δομή, ενώ πολλές φορές τα υπουργεία ιδρύονται με σχετικό νόμ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μήματα, δηλαδή λειτουργικές μονάδες των υπουργείων, οι οποίες λογοδοτούν στον υπουργό, συχνά, όμως, διαθέτουν σημαντικό βαθμό αυτονομί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μη υπουργικούς δημόσιους φορείς, οι οποίοι λειτουργούν εκτός πλαισίου της κεντρικής κυβέρνησης, προκειμένου να εξασφαλιστεί το πλεονέκτημα της διοικητικής ευελιξίας και η πολιτική τους ανεξαρτησία.</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0C93A-A07F-4F46-A9C7-17615FC92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C55F-2F5D-462B-8754-A960D778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5DBC0-033A-49BF-BBB9-454E30E70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B8F01-EA6B-4F23-A295-8AC10541F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B6968-7EB4-478B-A465-F9AF8E5CA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04902-3E32-4E04-B926-5C4EB5971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EAAAD-CBCC-48E1-9B9A-A013D30D9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F0E71-F241-427A-8D85-9EB9B002D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2FF4A-C421-4FEE-AA85-36A83989F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41CF8-D270-4FF4-9972-E985C3922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C9BF7-453F-4C5F-9283-8DC7A9087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3B8C3-FD4C-4422-8248-C294528E2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3431C-267F-4333-9EF4-4822E2EBD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B4E5F-09BF-4C2C-8457-E883F27B6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D9A7B-185D-4710-A59A-AB7EAB258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A9111-B099-424D-BF4B-CDE13C430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AE4CD-8CD4-44F6-A303-7AFE938D5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B960D-F47B-4DCB-B5E2-E3D36AB90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AF4FA-C41E-4195-A222-83E554675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57108-96B7-4BBF-BAA5-88EB4820A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1F9A7-82E9-4065-A92E-BBE7CB89B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50E3C-B84C-4D61-B3A0-C283CE6BF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DF108-FBB8-491A-9DA3-0145CF265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AA7C-FC01-402E-A303-D9D652244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8850-8556-4C5D-B2C5-09BF9B768F89}"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84C0-22BA-4BFB-BE9C-4A1BBCBC6BA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ημόσια διοίκη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Υπουργεία</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7.2:</a:t>
            </a:r>
            <a:r>
              <a:rPr b="0" lang="en-US" sz="2000" spc="-1" strike="noStrike">
                <a:solidFill>
                  <a:srgbClr val="000000"/>
                </a:solidFill>
                <a:latin typeface="Arial"/>
              </a:rPr>
              <a:t> </a:t>
            </a:r>
            <a:r>
              <a:rPr b="0" lang="el-GR" sz="2000" spc="-1" strike="noStrike">
                <a:solidFill>
                  <a:srgbClr val="000000"/>
                </a:solidFill>
                <a:latin typeface="Arial"/>
              </a:rPr>
              <a:t>Η τυπική δομή ενός κυβερνητικού υπουργείου</a:t>
            </a:r>
            <a:endParaRPr b="0" lang="en-US" sz="2000" spc="-1" strike="noStrike">
              <a:solidFill>
                <a:srgbClr val="000000"/>
              </a:solidFill>
              <a:latin typeface="Arial"/>
            </a:endParaRPr>
          </a:p>
        </p:txBody>
      </p:sp>
      <p:pic>
        <p:nvPicPr>
          <p:cNvPr id="124" name="Picture 4" descr="C:\Users\EPIMELEIA\Dropbox\Kritiki-Book-Proofing\14-sigritiki-politiki-hague\images\Hag_Fig_17_02.png"/>
          <p:cNvPicPr/>
          <p:nvPr/>
        </p:nvPicPr>
        <p:blipFill>
          <a:blip r:embed="rId1"/>
          <a:stretch/>
        </p:blipFill>
        <p:spPr>
          <a:xfrm>
            <a:off x="2314440" y="2133720"/>
            <a:ext cx="4314960" cy="431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μήματα</a:t>
            </a:r>
            <a:endParaRPr b="0" lang="en-US" sz="42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άθε τμήμα είναι υπεύθυνο για συγκεκριμένη πτυχή της δραστηριότητας ενός υπουργείου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ούν τα λειτουργικά μέρη των υπουργεί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λαμβάνουν ένα είδος αυτονομίας από την κεντρική διοίκηση.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Μη υπουργικοί δημόσιοι φορείς</a:t>
            </a:r>
            <a:endParaRPr b="0" lang="en-US" sz="42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όγοι για τη δημιουργία μη κυβερνητικών δημόσιων φορέων:</a:t>
            </a:r>
            <a:endParaRPr b="0" lang="en-US" sz="24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ροστασία από τις πολιτικές σκοπιμότητες</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εγαλύτερη ευελιξία (και περιορισμός δαπανών) σε σχέση με ένα τυπικό υπουργείο</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ναγνώριση της επαγγελματικής υπόστασης και της αυτονομίας του προσωπικού</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πάντηση στις κοντόφθαλμες πιέσεις του τύπου «πρέπει να κάνουμε κάτι για το εκάστοτε πρόβλημα»</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υνατότητα των υπουργείων να επικεντρώνονται στη χάραξη της πολιτικής</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Λογοδοσία</a:t>
            </a:r>
            <a:endParaRPr b="0" lang="en-US" sz="4200" spc="-1" strike="noStrike">
              <a:solidFill>
                <a:srgbClr val="66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ογοδοσία (accountability) με την αυστηρή έννοια του όρου, είναι η υποχρέωση έκθεσης πεπραγμένων. Ευρύτερα, ταυτίζεται με την έννοια της ευθύνης. Με αυτή τη δεύτερη έννοια, το άτομο είναι υπεύθυνο για τις ενέργειές του έναντι άλλου φορέα. Ο φορέας αυτός έχει την εξουσία να αξιολογεί και ενδεχομένως να επιβάλλει κυρώσει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Λογοδοσία</a:t>
            </a:r>
            <a:endParaRPr b="0" lang="en-US" sz="4200" spc="-1" strike="noStrike">
              <a:solidFill>
                <a:srgbClr val="660033"/>
              </a:solidFill>
              <a:latin typeface="Times New Roman"/>
            </a:endParaRPr>
          </a:p>
        </p:txBody>
      </p:sp>
      <p:pic>
        <p:nvPicPr>
          <p:cNvPr id="132" name="Picture 4" descr=""/>
          <p:cNvPicPr/>
          <p:nvPr/>
        </p:nvPicPr>
        <p:blipFill>
          <a:blip r:embed="rId1"/>
          <a:stretch/>
        </p:blipFill>
        <p:spPr>
          <a:xfrm>
            <a:off x="2362320" y="1828800"/>
            <a:ext cx="4171680" cy="39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Λογοδοσία</a:t>
            </a:r>
            <a:endParaRPr b="0" lang="en-US" sz="4200" spc="-1" strike="noStrike">
              <a:solidFill>
                <a:srgbClr val="66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συνήγορος του πολίτη (ombudsman) είναι δημόσιος αξιωματούχος που διορίζεται από το κοινοβούλιο για να διερευνά υποθέσεις κακοδιοίκησης στον δημόσιο τομέ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έα Δημόσια Διοίκηση</a:t>
            </a:r>
            <a:endParaRPr b="0" lang="en-US" sz="4200" spc="-1" strike="noStrike">
              <a:solidFill>
                <a:srgbClr val="66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συστατικά στοιχεία της Νέας Δημόσια Διοίκησης</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διευθυντές έχουν μεγαλύτερη ευχέρεια κινήσεων, είναι, όμως, υπεύθυνοι για τα αποτελέσματα των ενεργειών τους</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ίθενται συγκεκριμένοι στόχοι βάσει των οποίων αξιολογείται η αποτελεσματικότητα</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κονδύλια κατανέμονται ανάλογα με την αποτελεσματικότητα του κάθε δημόσιου φορέα</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κυβερνητικά υπουργεία αποσυντίθενται σε περισσότερες ανεξάρτητες λειτουργικές μονάδες</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σσότερες λειτουργίες ανατίθενται στον ιδιωτικό τομέα</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άρχει μεγαλύτερη ευελιξία στη στελέχωση και κατάρτιση του προσωπικού</a:t>
            </a:r>
            <a:endParaRPr b="0" lang="en-US" sz="2000" spc="-1" strike="noStrike">
              <a:solidFill>
                <a:srgbClr val="000000"/>
              </a:solidFill>
              <a:latin typeface="Arial"/>
            </a:endParaRPr>
          </a:p>
          <a:p>
            <a:pPr lvl="1" marL="743040" indent="-285840">
              <a:lnSpc>
                <a:spcPct val="80000"/>
              </a:lnSpc>
              <a:spcBef>
                <a:spcPts val="49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δαπάνες περιστέλλονται με σκοπό την επίτευξη περισσότερων στόχων με τα λιγότερα δυνατά μέσα</a:t>
            </a:r>
            <a:endParaRPr b="0" lang="en-US" sz="2000" spc="-1" strike="noStrike">
              <a:solidFill>
                <a:srgbClr val="000000"/>
              </a:solidFill>
              <a:latin typeface="Arial"/>
            </a:endParaRPr>
          </a:p>
          <a:p>
            <a:pPr lvl="1" marL="743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d, 19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έα Δημόσια Διοίκηση</a:t>
            </a:r>
            <a:endParaRPr b="0" lang="en-US" sz="4200" spc="-1" strike="noStrike">
              <a:solidFill>
                <a:srgbClr val="66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οσέγγιση της συντονισμένης κυβέρνησης (joined-up-government ή whole-of-government) επιδιώκει τη βελτίωση του συντονισμού της δημόσιας πολιτικής σε όλους τους τομεί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χυρή γραφειοκρατ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χνά μετατρέπεται σε κορυφαία πολιτική δύναμ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ούν τροχοπέδη στην πρόοδ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γραφειοκρατικός απολυταρχισμός (bureaucratic authoritarianism) είναι ο όρος που διατύπωσε ο O'Donnell (1973) για να περιγράψει καθεστώτα όπου οι τεχνοκράτες της γραφειοκρατίας επέβαλαν την οικονομική σταθερότητα υπό την προστασία στρατιωτικών κυβερνήσεων που κατέστελλαν τα λαϊκά κινή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γραφειοκρατία (bureaucracy) σημαίνει κυριολεκτικά εξουσία των αξιωματούχων. Στη σύγχρονη εποχή, η γραφειοκρατία αναφέρεται στους έμμισθους λειτουργούς που συγκροτούν τη δημόσια διοίκηση ή δημόσια υπηρεσ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ικανότητα της δημόσιας διοίκησης (administrative capacity) νοείται η ικανότητα της γραφειοκρατίας να αντιμετωπίζει τα κοινωνικά προβλήματα μέσα από την αποτελεσματική διαχείρισή τους και την εφαρμογή της δημόσιας πολιτικ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ενκλατούρα (nomenklatura) (λίστα ονομάτων) ήταν η ομάδα των έμπιστων ανθρώπων από όπου αντλούσαν τα στελέχη της γραφειοκρατίας τα κυβερνώντα κομμουνιστικά κόμ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Η γραφειοκρατία </a:t>
            </a:r>
            <a:br>
              <a:rPr sz="3800"/>
            </a:br>
            <a:r>
              <a:rPr b="0" lang="el-GR" sz="3800" spc="-1" strike="noStrike">
                <a:solidFill>
                  <a:srgbClr val="660033"/>
                </a:solidFill>
                <a:latin typeface="Times New Roman"/>
              </a:rPr>
              <a:t>στις ανελεύθερες δημοκρατίες</a:t>
            </a:r>
            <a:endParaRPr b="0" lang="en-US" sz="3800" spc="-1" strike="noStrike">
              <a:solidFill>
                <a:srgbClr val="66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ανελεύθερες δημοκρατίες είναι πολιτικά, όχι γραφειοκρατικά καθεστώτ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ηγέτες συχνά προβάλλουν τον εαυτό τους ως αντίπαλο θεσμών όπως η γραφειοκρατ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συντόνιστη λειτουργία της δημόσιας διοίκηση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αφθορά ακμάζει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ξιοκρατικές προσλήψει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ξέλιξη</a:t>
            </a:r>
            <a:endParaRPr b="0" lang="en-US" sz="4200" spc="-1" strike="noStrike">
              <a:solidFill>
                <a:srgbClr val="660033"/>
              </a:solidFill>
              <a:latin typeface="Times New Roman"/>
            </a:endParaRPr>
          </a:p>
        </p:txBody>
      </p:sp>
      <p:pic>
        <p:nvPicPr>
          <p:cNvPr id="109" name="Picture 4" descr=""/>
          <p:cNvPicPr/>
          <p:nvPr/>
        </p:nvPicPr>
        <p:blipFill>
          <a:blip r:embed="rId1"/>
          <a:stretch/>
        </p:blipFill>
        <p:spPr>
          <a:xfrm>
            <a:off x="1143000" y="1562040"/>
            <a:ext cx="700092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ξέλιξη</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ρουσφετολογικό σύστημα (spoils system) οι εκλεγμένοι πολιτικοί διορίζουν σε δημόσιες θέσεις πρόσωπα που είχαν την πρόνοια να υποστηρίξουν τους υποψηφίους που τελικά επικράτησαν.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στο αξιοκρατικό σύστημα (merit system) οι δημόσιοι υπάλληλοι προσλαμβάνονται κατόπιν διαγωνισμού με βάση την αξία τ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ξέλιξη</a:t>
            </a:r>
            <a:endParaRPr b="0" lang="en-US" sz="4200" spc="-1" strike="noStrike">
              <a:solidFill>
                <a:srgbClr val="660033"/>
              </a:solidFill>
              <a:latin typeface="Times New Roman"/>
            </a:endParaRPr>
          </a:p>
        </p:txBody>
      </p:sp>
      <p:pic>
        <p:nvPicPr>
          <p:cNvPr id="113" name="Picture 4" descr=""/>
          <p:cNvPicPr/>
          <p:nvPr/>
        </p:nvPicPr>
        <p:blipFill>
          <a:blip r:embed="rId1"/>
          <a:stretch/>
        </p:blipFill>
        <p:spPr>
          <a:xfrm>
            <a:off x="1228680" y="1952640"/>
            <a:ext cx="715320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μια ενοποιημένη (unified) ή γενικότερων αρμοδιοτήτων (generalist) γραφειοκρατία, η στελέχωση γίνεται στο σύνολο του δημόσιου τομέα και όχι σε κάποια συγκεκριμένη θέση εργασίας. Οι διοικητικές εργασίες χρειάζονται υπαλλήλους με ευφυΐα και μόρφωση, ενώ οι τεχνικές γνώσεις δεν είναι απαραίτητ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κατά την εξειδικευμένη ανά τομέα αρμοδιότητας (departmental) προσέγγιση προσλαμβάνεται προσωπικό που έχει το κατάλληλο τεχνικό υπόβαθρο για να καλύψει τις ανάγκες μιας συγκεκριμένης θέσης εργασία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αφατική δράση (affirmative action) είναι οι πολιτικές που σχεδιάζονται για να ξεπεραστεί κάποια κληρονομιά διακρίσεων σε βάρος συγκεκριμένων ομάδων. Ένα είδος καταφατικής δράσης είναι η θετική διάκριση (positive discrimination) - δηλαδή η εφαρμογή χαμηλότερων κριτηρίων πρόσληψης για τα μέλη μειονεκτικών ομάδ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γάνωση</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οργανωτική δομή της κυβέρνη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ουργε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μήματ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η υπουργικοί δημόσιοι φορεί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18:44:38Z</dcterms:created>
  <dc:creator>pc</dc:creator>
  <dc:description/>
  <dc:language>en-US</dc:language>
  <cp:lastModifiedBy>Dimitris</cp:lastModifiedBy>
  <dcterms:modified xsi:type="dcterms:W3CDTF">2016-03-07T11:32:35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